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092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21080" y="191880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20040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1092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21080" y="4114440"/>
            <a:ext cx="18190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98960" y="645840"/>
            <a:ext cx="56498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5520" y="411444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0040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5520" y="1918800"/>
            <a:ext cx="27568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00400" y="4114440"/>
            <a:ext cx="564984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10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23EE932-A17D-4F47-9DC5-06C4C175E22F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FCB0AAB-8B70-4CC7-8D18-50C465725D11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61D3117B-A204-4117-ADC5-05A7929E9759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CA8416B7-3387-4177-A5B6-0685C22999D6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8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Valuation Summary of the BREP Funds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139860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270080"/>
            <a:ext cx="698400" cy="172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9600" y="4146480"/>
            <a:ext cx="6130800" cy="2095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1640" y="1746360"/>
            <a:ext cx="85280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note"/>
          <p:cNvSpPr/>
          <p:nvPr/>
        </p:nvSpPr>
        <p:spPr>
          <a:xfrm>
            <a:off x="369720" y="608364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5960" y="1393920"/>
            <a:ext cx="8534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1960" y="730080"/>
            <a:ext cx="265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98960" y="564840"/>
            <a:ext cx="5649840" cy="426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Summary of Investments Subject to </a:t>
            </a:r>
            <a:br>
              <a:rPr sz="1400"/>
            </a:b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Write-Ups / Downs at 3/31/10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66760" y="1146240"/>
            <a:ext cx="14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($ in thousan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note"/>
          <p:cNvSpPr/>
          <p:nvPr/>
        </p:nvSpPr>
        <p:spPr>
          <a:xfrm>
            <a:off x="379440" y="5883480"/>
            <a:ext cx="73454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e: Non USD investments are reflected at the acquisition foreign exchange rate in the above analysis and are marked to market in BX GAAP report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6600" y="1432080"/>
            <a:ext cx="86900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22T19:06:10Z</dcterms:modified>
  <cp:revision>5173</cp:revision>
  <dc:subject/>
  <dc:title>Page Title</dc:title>
</cp:coreProperties>
</file>